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084-44DE-42A1-9551-D950F48E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14C-1CDE-4C26-A91E-9020ED37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430-2378-4B67-8B57-BE8460F1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4BA-86D6-4B2A-B54C-777394C6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B7C-E2A4-416F-9993-7B57621C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9E8-B667-4AA9-A692-7F51809D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A66-2D91-42C1-AF2A-37757361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28A-BB26-4C46-B52F-F66158E8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220-85D9-4578-A46C-3C98D541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CE8-E099-402C-AC9B-0AAE5CD0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185-0C4F-44F1-B8EA-D275E0E7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5DF-E98E-4F2B-B4D6-C5EA6449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A74D-5D93-436C-AE9B-641FD712E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2.wordpress.com/?id=725X1342&amp;site=osusurvey09.wordpress.com&amp;url=http%3A%2F%2F95820daa-a0c5-4ec1-b66b-5d8f11bbc11b%2Fapplication.pdf&amp;sref=http%3A%2F%2Fosusurvey09.wordpress.com%2F2009%2F12%2F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hillipscollection.org/migration_series/flash/experience.cf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2004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the Art of Jacob Law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very town Negroes were leaving by the Hundreds to go North and enter into Northern industry.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From every southern town migrants left by hundreds to travel nor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6171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ntryps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905120"/>
            <a:ext cx="6096240" cy="4047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igrants moved to Pittsburgh, which was a great industrial center at the time."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e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150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42670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37, Many migrants found work in the steel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63241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lipscollection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35719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semer Process for St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1528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 31…in the North, there was improved housing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lipscollectio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6386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lem Citysc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ngl352.pbworks.com/f/HarlemRenstreetscen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94072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 59, In the North they had the freedom to 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6324480"/>
            <a:ext cx="4495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lipscollectio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34416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49…They found discrimination in the North. It was a different 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63241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chris32.files.wordpress.com/2009/11/discriminat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29811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Great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-called “Second Great Migration” took place during World War II (194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frican-Americans moved North to find war industry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lso moved westward to places like California for war-related industrial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hillipscollection.org/migration_series/flash/experience.c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Migr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Migration took place during World War I (approx 1917-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African-Americans moved from their homes in the South to new home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our foc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asons would African-Americans have to leave the So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nd where did they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life like for them in their new ho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Migration Se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Panel No.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a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0070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. 17, “Tenant farmers received harsh treatment at the hands of planter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6248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3216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croppers in Alab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172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yclopediaofalabam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Tenant farmers in Eutaw County hoe their cotton fields in July 1936. The image was "/>
          <p:cNvPicPr/>
          <p:nvPr/>
        </p:nvPicPr>
        <p:blipFill>
          <a:blip r:embed="rId1"/>
          <a:stretch/>
        </p:blipFill>
        <p:spPr>
          <a:xfrm>
            <a:off x="1752480" y="1523880"/>
            <a:ext cx="5330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52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 25, They left their homes.  Soon some communities were left almost emp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6019560"/>
            <a:ext cx="2133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illipscollection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343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cropper’s House, North Carolin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whistonspirn.com, Dorothy L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53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were lynching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knowledgenew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Jacob Lawrence (American, 1917-2000) - The Migration Series (1940-41) - Panel no.15 - 'There were lynchings.' (title and text revised by the artist, 1993) - Casein tempera on hardboard - 12 x 18 in. The Phillips Collection, D.C., acquired 1942"/>
          <p:cNvPicPr/>
          <p:nvPr/>
        </p:nvPicPr>
        <p:blipFill>
          <a:blip r:embed="rId1"/>
          <a:stretch/>
        </p:blipFill>
        <p:spPr>
          <a:xfrm>
            <a:off x="1066680" y="1143000"/>
            <a:ext cx="66675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02:23:22Z</dcterms:created>
  <dc:creator>ACPS</dc:creator>
  <dc:description/>
  <dc:language>en-US</dc:language>
  <cp:lastModifiedBy>ACPS</cp:lastModifiedBy>
  <dcterms:modified xsi:type="dcterms:W3CDTF">2010-07-17T17:42:14Z</dcterms:modified>
  <cp:revision>19</cp:revision>
  <dc:subject/>
  <dc:title>The Great Migration</dc:title>
</cp:coreProperties>
</file>